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CE3-C868-414F-8ABA-D17C9449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F0F-72CD-44E9-9178-783AEDF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545-327F-4CF0-8E30-19EBBB44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39E-0B57-444B-BE77-5190C022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82D-379A-4311-9473-61A294F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8E4-213D-4196-A13E-9CAA6E77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CE-0ED5-42D7-AAD5-62808740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E8E-3F81-4730-8691-087D9CA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CC2-369F-4216-8E24-A38ADE94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3B3-EE4A-4DB0-95F1-EB91153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CA2-73EA-4316-B96D-D7F047D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5AC-79F0-44F3-A41C-617F29A7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B7E4-0916-4645-BC6F-48970528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Pocahontas_illustratio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14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2285640"/>
            <a:ext cx="4419360" cy="213372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irginia D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hn Rol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anoke and James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www.serc.si.edu/education/resources/watershed/stories/images/roanokemap.gif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384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upload.wikimedia.org/wikipedia/en/b/b2/Map_showing_location_of_Jamestown_and_Roanoke_Island_Colonies.PNG"/>
          <p:cNvPicPr/>
          <p:nvPr/>
        </p:nvPicPr>
        <p:blipFill>
          <a:blip r:embed="rId2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irginia D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38480" y="304560"/>
            <a:ext cx="5105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rn ______________- one month after the __________ arrived on ___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r _____________ was John ________, the _________ of the __________ Colon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rginia Dare was the ___________ of English parents born in the “_________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_______________sailed back to _________ when __________ was ________ month ol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uring the past ___ hundred years she has become a prominent figure in American ______ and ________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http://upload.wikimedia.org/wikipedia/commons/1/1b/Virginia_dare_stamp.JPG"/>
          <p:cNvPicPr/>
          <p:nvPr/>
        </p:nvPicPr>
        <p:blipFill>
          <a:blip r:embed="rId1"/>
          <a:stretch/>
        </p:blipFill>
        <p:spPr>
          <a:xfrm>
            <a:off x="609480" y="1066680"/>
            <a:ext cx="2895840" cy="288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.flickr.com/2253/2468742833_8392d612a4.jpg"/>
          <p:cNvPicPr/>
          <p:nvPr/>
        </p:nvPicPr>
        <p:blipFill>
          <a:blip r:embed="rId2"/>
          <a:srcRect l="0" t="34341" r="34410" b="7069"/>
          <a:stretch/>
        </p:blipFill>
        <p:spPr>
          <a:xfrm>
            <a:off x="457200" y="419112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telecoins.com/images/roanoke-ms64-0705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hn Rol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52320" y="272520"/>
            <a:ext cx="57913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rn c. 1585 in 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was one of the early ____ settlers of _________________(Jamestown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1612, he learned from local ______________that _________ grew well in Virginia’s ____, _______ wea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in __________ were willing to pay a ______________for the crop, which did not ___________in ___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bacco was a _______ crop, a crop that people _______ and ______ to earn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was the first person to successfully  __________ tobacco as a ________________in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http://oncampus.richmond.edu/academics/education/projects/webunits/vahistory/images/jsmith.gif"/>
          <p:cNvPicPr/>
          <p:nvPr/>
        </p:nvPicPr>
        <p:blipFill>
          <a:blip r:embed="rId1"/>
          <a:stretch/>
        </p:blipFill>
        <p:spPr>
          <a:xfrm>
            <a:off x="304920" y="1676520"/>
            <a:ext cx="2724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350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caho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72880"/>
            <a:ext cx="579132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c. 1595  in present-day Virgini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r __________ was the _______of the Powhatan trib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whatans and the Jamestown __________ traded _________ in return for __________ go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__________ saw that the ______ were trying to take over their lan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wo sides made _____ when John ________ married Pocahont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ce did ____ last – the English tried to take more _____ and the Powhatans _________ bac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became a __________ in London in the last year of her lif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died, ___________ Rolfe, in 161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Image:Pocahontas illustr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297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http://content.answers.com/main/content/img/getty/2/5/2931025.jpg"/>
          <p:cNvPicPr/>
          <p:nvPr/>
        </p:nvPicPr>
        <p:blipFill>
          <a:blip r:embed="rId1"/>
          <a:stretch/>
        </p:blipFill>
        <p:spPr>
          <a:xfrm>
            <a:off x="304920" y="380880"/>
            <a:ext cx="8161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Virginia Dare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ohn Rolfe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ocahonta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1-14T12:15:08Z</dcterms:modified>
  <cp:revision>23</cp:revision>
  <dc:subject/>
  <dc:title>Famous People Friday</dc:title>
</cp:coreProperties>
</file>